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jpeg" ContentType="image/jpeg"/>
  <Override PartName="/ppt/media/image2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789600" cy="992520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75">
                <a:moveTo>
                  <a:pt x="5" y="0"/>
                </a:moveTo>
                <a:arcTo wR="5" hR="5" stAng="16200000" swAng="-5400000"/>
                <a:lnTo>
                  <a:pt x="0" y="31570"/>
                </a:lnTo>
                <a:arcTo wR="5" hR="5" stAng="10800000" swAng="-5400000"/>
                <a:lnTo>
                  <a:pt x="21595" y="315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792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27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3"/>
          </p:nvPr>
        </p:nvSpPr>
        <p:spPr>
          <a:xfrm>
            <a:off x="3844440" y="9424800"/>
            <a:ext cx="294012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2DCE78-8382-42C6-8878-68C030637C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E7B248-412F-4616-A5C9-B3D4FE7D6D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FCE57F-12E6-4260-B5FA-EE82E6F26E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792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277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AA06A4-AD30-42B1-A178-286163BA6C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84336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51CF8-8CC9-45C7-9F90-D267164750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705B7E-ED70-4759-995F-587FE17C97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3B1BFF-6B79-4C84-B336-944428B549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E4F3BB-21E5-4000-A3C2-EB07ABDE41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A9A0C1-C021-4F0B-8E49-66605639A0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B1C529-1D54-414B-9F00-8E3186E577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288374-8CAA-440D-A2B3-A57F8BBB3E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6F2D68-24E0-4277-AB01-80D76E10DA9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B2B546-7119-4995-B9B6-7BC6764FCF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BF0133-7E1B-444D-BEC9-CF64C109FD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D929AE-A83D-43B8-BCF6-A6D54575AF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5CAE2F-B3D2-429E-92A9-A0FCE883C4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65FC1C-810B-4963-8F77-9AADB293E5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624C45-0AB5-4361-88F7-92B87F8094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C5A099-3028-408E-93D0-BAF3F153CB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644CCC-35A1-4C3D-A316-C38222D898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D70719-1184-4281-9343-22C3D34EAB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AD2396-3D6C-411A-BF0C-65749F5B2F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CAB178-D909-4534-A35C-AC1F623377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F604D5-4440-46FE-B3BD-D6938EEBE6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A0DAEA-AB6B-45DA-A5C0-623B283502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233C24-DDF8-450C-AED6-7E47956A7B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19AEFB-0DE6-41BE-B72D-35822E5C87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DF73E7-1828-421B-935D-E51587879E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C10756-3BB4-40B1-8997-25B801DFAF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0AD077-0E20-4E0A-88DF-7933EFBF17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44800" y="9425160"/>
            <a:ext cx="2940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FEABA9-66AF-4719-A054-3D9B468C30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5121-8B88-480F-AA54-ECE591485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C9CE-AA57-4529-B264-7904597A1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92AA-353D-41C6-838C-37D14026E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BF20-4211-4A47-B425-337723150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6D5B-D25E-4B84-A71A-D8B823E38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A744-304D-4DBF-9DFB-99A2B9206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D2DF-CEB6-4C48-8204-5ED2348D67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7919-65DB-4AB5-8E1C-EB886B6356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FB6D-D265-4D48-8C01-D85BFAF7F9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B3EE-F631-45D5-A3A6-E6F3E31550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CE3B-56E0-4D73-A941-275C6C10F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E784-0656-4F65-B79E-A4242AEFB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6BB8-7C0A-4AC4-BCDD-1E106FF67B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8B76-8ACA-4D32-BD65-859B0009C5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9A68-695E-46E2-AA45-8304504E89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CC24-B274-4D57-85E1-31FA611F5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AB93-D7DF-4B3E-8578-D8FD070A6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5C17-6D17-4436-ADEB-8544DF6F0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086D-CDC6-4233-A67A-2472EE54A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21F7-70D4-4FC3-A090-69457CB00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7B3D-5579-40ED-B84E-BA4AB71EA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F80E-0D9A-492B-BF7B-7B7919A59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0E17-C57E-4696-B0C3-B88746531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7E78-490A-4066-BA8F-4F1ADFC44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AB99F-9AC5-4338-88CA-E3D742BEB5A6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E04943-60AD-4DAB-ADA0-4253A7A76ED4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500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Cambria"/>
              </a:rPr>
              <a:t>БЮДЖЕТ  ДЛЯ  ГРАЖДА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57200" y="6000840"/>
            <a:ext cx="63691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1.12.2017 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Rectangle 60"/>
          <p:cNvSpPr/>
          <p:nvPr/>
        </p:nvSpPr>
        <p:spPr>
          <a:xfrm>
            <a:off x="684360" y="1844640"/>
            <a:ext cx="7988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mbria"/>
              </a:rPr>
              <a:t>ПРОЕКТ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местного бюджет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на 2018 год и на плановый период 2019 и 2020 год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63"/>
          <p:cNvSpPr/>
          <p:nvPr/>
        </p:nvSpPr>
        <p:spPr>
          <a:xfrm>
            <a:off x="798480" y="4422600"/>
            <a:ext cx="7988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64"/>
          <p:cNvSpPr/>
          <p:nvPr/>
        </p:nvSpPr>
        <p:spPr>
          <a:xfrm>
            <a:off x="5327640" y="6399360"/>
            <a:ext cx="381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инансовое управл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Герб МО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sp>
        <p:nvSpPr>
          <p:cNvPr id="172" name="WordArt 2"/>
          <p:cNvSpPr txBox="1"/>
          <p:nvPr/>
        </p:nvSpPr>
        <p:spPr>
          <a:xfrm>
            <a:off x="1332000" y="42840"/>
            <a:ext cx="6472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8101080" y="181080"/>
            <a:ext cx="815760" cy="10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4"/>
          <p:cNvGraphicFramePr/>
          <p:nvPr/>
        </p:nvGraphicFramePr>
        <p:xfrm>
          <a:off x="415800" y="1744560"/>
          <a:ext cx="8642520" cy="4969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800" y="1744560"/>
                    <a:ext cx="864252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5" descr=""/>
          <p:cNvPicPr/>
          <p:nvPr/>
        </p:nvPicPr>
        <p:blipFill>
          <a:blip r:embed="rId5"/>
          <a:stretch/>
        </p:blipFill>
        <p:spPr>
          <a:xfrm>
            <a:off x="450720" y="396720"/>
            <a:ext cx="83217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324000" y="-85680"/>
            <a:ext cx="832140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442800" y="487440"/>
          <a:ext cx="8570880" cy="6211800"/>
        </p:xfrm>
        <a:graphic>
          <a:graphicData uri="http://schemas.openxmlformats.org/drawingml/2006/table">
            <a:tbl>
              <a:tblPr/>
              <a:tblGrid>
                <a:gridCol w="360360"/>
                <a:gridCol w="6842160"/>
                <a:gridCol w="1368360"/>
              </a:tblGrid>
              <a:tr h="3726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п.п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Наименование програм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Развитие образ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117167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Доступн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Дети Северского рай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1355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8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Комплексное и устойчивое развитие Северского района в сфере дорожного хозяй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21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Обеспечение безопасности населения и развитие казач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1814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Развитие культу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13167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Развитие физической культуры и спор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5934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Молодежь Северского рай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993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Региональная политика и развитие гражданского общ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53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Формирование условий для духовно-нравственного развития граж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11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Информационное общество Северского рай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911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8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Развитие сельского хозяйства и регулирование рынков сельскохозяйственной продукции, сырья и продоволь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568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Управление муниципальными финан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3712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8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Обеспечение жильем молодых семей в муниципальном образовании Северский райо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137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Развитие здравоохра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10226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bd0d9"/>
                      </a:solidFill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Социально-экономическое и инновационное развитие муниципального  образования Северский райо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4e6d"/>
                          </a:solidFill>
                          <a:latin typeface="Times New Roman"/>
                          <a:ea typeface="Times New Roman"/>
                        </a:rPr>
                        <a:t>28100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Прямоугольник 5" descr=""/>
          <p:cNvPicPr/>
          <p:nvPr/>
        </p:nvPicPr>
        <p:blipFill>
          <a:blip r:embed="rId1"/>
          <a:stretch/>
        </p:blipFill>
        <p:spPr>
          <a:xfrm>
            <a:off x="536400" y="615960"/>
            <a:ext cx="8217000" cy="1212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-95400" y="633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Герб МО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539640" y="1916280"/>
          <a:ext cx="8209080" cy="4497120"/>
        </p:xfrm>
        <a:graphic>
          <a:graphicData uri="http://schemas.openxmlformats.org/drawingml/2006/table">
            <a:tbl>
              <a:tblPr/>
              <a:tblGrid>
                <a:gridCol w="4753080"/>
                <a:gridCol w="2087640"/>
                <a:gridCol w="1368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Развитие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172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  млн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5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Дети Северского рай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e2ca"/>
                      </a:solidFill>
                    </a:lnT>
                    <a:lnB>
                      <a:noFill/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36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  млн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e2ca"/>
                      </a:solidFill>
                    </a:lnT>
                    <a:lnB>
                      <a:noFill/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e2ca"/>
                      </a:solidFill>
                    </a:lnT>
                    <a:lnB>
                      <a:noFill/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Развитие 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32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  млн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Развитие физической культуры и спо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59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  млн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Развитие здравоохра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102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  млн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Социально-экономическое и инновационное развитие МО Северский рай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281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  млн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Constantia"/>
                        </a:rPr>
                        <a:t>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aae2c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1116000" y="1225440"/>
            <a:ext cx="8929800" cy="473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73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173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749160" y="1504800"/>
            <a:ext cx="7718400" cy="489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1255680" y="237960"/>
            <a:ext cx="677880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365120" y="360360"/>
            <a:ext cx="6473880" cy="1200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504800" y="1682640"/>
            <a:ext cx="6932880" cy="463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173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4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1763640" y="3500280"/>
            <a:ext cx="1224000" cy="1008360"/>
          </a:xfrm>
          <a:prstGeom prst="ellipse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,5 </a:t>
            </a:r>
            <a:r>
              <a:rPr b="1" lang="ru-RU" sz="1800" spc="-1" strike="noStrike">
                <a:solidFill>
                  <a:srgbClr val="115964"/>
                </a:solidFill>
                <a:latin typeface="Constantia"/>
              </a:rPr>
              <a:t>мл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763640" y="1913040"/>
            <a:ext cx="1224000" cy="1008000"/>
          </a:xfrm>
          <a:prstGeom prst="ellipse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276,5 </a:t>
            </a:r>
            <a:r>
              <a:rPr b="1" lang="ru-RU" sz="1800" spc="-1" strike="noStrike">
                <a:solidFill>
                  <a:srgbClr val="115964"/>
                </a:solidFill>
                <a:latin typeface="Constantia"/>
              </a:rPr>
              <a:t>мл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55720" y="5078520"/>
            <a:ext cx="1224000" cy="1008000"/>
          </a:xfrm>
          <a:prstGeom prst="ellipse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,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15964"/>
                </a:solidFill>
                <a:latin typeface="Constantia"/>
              </a:rPr>
              <a:t>мл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133640" y="182520"/>
            <a:ext cx="6864120" cy="1092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504800" y="1682640"/>
            <a:ext cx="6919920" cy="463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173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4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201" name="Oval 5"/>
          <p:cNvSpPr/>
          <p:nvPr/>
        </p:nvSpPr>
        <p:spPr>
          <a:xfrm>
            <a:off x="1692360" y="1838160"/>
            <a:ext cx="1295280" cy="1159200"/>
          </a:xfrm>
          <a:prstGeom prst="ellipse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74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мл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1692360" y="3425760"/>
            <a:ext cx="1295280" cy="1158840"/>
          </a:xfrm>
          <a:prstGeom prst="ellipse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мл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725480" y="5013360"/>
            <a:ext cx="1297080" cy="1158840"/>
          </a:xfrm>
          <a:prstGeom prst="ellipse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34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мл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822240" y="828720"/>
            <a:ext cx="7284960" cy="8110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"/>
          <p:cNvSpPr/>
          <p:nvPr/>
        </p:nvSpPr>
        <p:spPr>
          <a:xfrm>
            <a:off x="611280" y="1916280"/>
            <a:ext cx="6192720" cy="649080"/>
          </a:xfrm>
          <a:custGeom>
            <a:avLst/>
            <a:gdLst>
              <a:gd name="textAreaLeft" fmla="*/ 0 w 6192720"/>
              <a:gd name="textAreaRight" fmla="*/ 6193080 w 6192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8" y="0"/>
                </a:lnTo>
                <a:lnTo>
                  <a:pt x="21600" y="10800"/>
                </a:lnTo>
                <a:lnTo>
                  <a:pt x="204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БЕСПЛАТНЫЕ МЕДИКАМЕН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11280" y="2637000"/>
            <a:ext cx="6192720" cy="720720"/>
          </a:xfrm>
          <a:custGeom>
            <a:avLst/>
            <a:gdLst>
              <a:gd name="textAreaLeft" fmla="*/ 0 w 6192720"/>
              <a:gd name="textAreaRight" fmla="*/ 6193080 w 6192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43" y="0"/>
                </a:lnTo>
                <a:lnTo>
                  <a:pt x="21600" y="10800"/>
                </a:lnTo>
                <a:lnTo>
                  <a:pt x="203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ЛЬГОТНОЕ ЗУБОПРОТЕЗИР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11280" y="3429000"/>
            <a:ext cx="6264360" cy="79200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34" y="0"/>
                </a:lnTo>
                <a:lnTo>
                  <a:pt x="21600" y="10800"/>
                </a:lnTo>
                <a:lnTo>
                  <a:pt x="202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СТРОИТЕЛЬСТВО ОФИСА ВРАЧА ОБЩЕЙ ПРАКТ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11280" y="4292640"/>
            <a:ext cx="6264360" cy="6490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1" y="0"/>
                </a:lnTo>
                <a:lnTo>
                  <a:pt x="21600" y="10800"/>
                </a:lnTo>
                <a:lnTo>
                  <a:pt x="204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СОДЕРЖАНИЕ УЧРЕЖД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11280" y="5013360"/>
            <a:ext cx="6264360" cy="64764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3" y="0"/>
                </a:lnTo>
                <a:lnTo>
                  <a:pt x="21600" y="10800"/>
                </a:lnTo>
                <a:lnTo>
                  <a:pt x="204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ВСЕГО РАСХОДОВ БЮДЖ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164360" y="2060640"/>
          <a:ext cx="1585800" cy="3600360"/>
        </p:xfrm>
        <a:graphic>
          <a:graphicData uri="http://schemas.openxmlformats.org/drawingml/2006/table">
            <a:tbl>
              <a:tblPr/>
              <a:tblGrid>
                <a:gridCol w="15858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35,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12240">
                      <a:solidFill>
                        <a:srgbClr val="0bd0d9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2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1224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0bd0d9">
                        <a:alpha val="20000"/>
                      </a:srgbClr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8,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55,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0bd0d9">
                        <a:alpha val="20000"/>
                      </a:srgbClr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102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29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73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1"/>
          <p:cNvSpPr/>
          <p:nvPr/>
        </p:nvSpPr>
        <p:spPr>
          <a:xfrm>
            <a:off x="1835280" y="2781360"/>
            <a:ext cx="5832360" cy="1440"/>
          </a:xfrm>
          <a:prstGeom prst="line">
            <a:avLst/>
          </a:prstGeom>
          <a:ln cap="rnd"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14" name="AutoShape 2"/>
          <p:cNvCxnSpPr/>
          <p:nvPr/>
        </p:nvCxnSpPr>
        <p:spPr>
          <a:xfrm>
            <a:off x="1835280" y="2781000"/>
            <a:ext cx="2160" cy="432360"/>
          </a:xfrm>
          <a:prstGeom prst="straightConnector1">
            <a:avLst/>
          </a:prstGeom>
          <a:ln cap="rnd"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5" name="AutoShape 3"/>
          <p:cNvCxnSpPr/>
          <p:nvPr/>
        </p:nvCxnSpPr>
        <p:spPr>
          <a:xfrm>
            <a:off x="7667640" y="2781000"/>
            <a:ext cx="2160" cy="432360"/>
          </a:xfrm>
          <a:prstGeom prst="straightConnector1">
            <a:avLst/>
          </a:prstGeom>
          <a:ln cap="sq"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6" name="AutoShape 4"/>
          <p:cNvCxnSpPr/>
          <p:nvPr/>
        </p:nvCxnSpPr>
        <p:spPr>
          <a:xfrm>
            <a:off x="3780000" y="2781000"/>
            <a:ext cx="2160" cy="432360"/>
          </a:xfrm>
          <a:prstGeom prst="straightConnector1">
            <a:avLst/>
          </a:prstGeom>
          <a:ln cap="rnd"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7" name="AutoShape 5"/>
          <p:cNvCxnSpPr/>
          <p:nvPr/>
        </p:nvCxnSpPr>
        <p:spPr>
          <a:xfrm>
            <a:off x="5796000" y="2781000"/>
            <a:ext cx="2160" cy="432360"/>
          </a:xfrm>
          <a:prstGeom prst="straightConnector1">
            <a:avLst/>
          </a:prstGeom>
          <a:ln cap="sq"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Rectangle 6"/>
          <p:cNvSpPr/>
          <p:nvPr/>
        </p:nvSpPr>
        <p:spPr>
          <a:xfrm>
            <a:off x="900000" y="3357720"/>
            <a:ext cx="1871640" cy="24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5 г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39,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Constantia"/>
              </a:rPr>
              <a:t>млн.ру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10cf9b"/>
                </a:solidFill>
                <a:latin typeface="Constantia"/>
              </a:rPr>
              <a:t>35</a:t>
            </a:r>
            <a:r>
              <a:rPr b="1" lang="ru-RU" sz="2800" spc="-1" strike="noStrike">
                <a:solidFill>
                  <a:srgbClr val="10cf9b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cf9b"/>
                </a:solidFill>
                <a:latin typeface="Constantia"/>
              </a:rPr>
              <a:t>кварти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843280" y="3357720"/>
            <a:ext cx="2016000" cy="24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6 г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Constantia"/>
              </a:rPr>
              <a:t>млн.ру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10cf9b"/>
                </a:solidFill>
                <a:latin typeface="Constantia"/>
              </a:rPr>
              <a:t>2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cf9b"/>
                </a:solidFill>
                <a:latin typeface="Constantia"/>
              </a:rPr>
              <a:t>кварти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788000" y="3357720"/>
            <a:ext cx="2016000" cy="24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7 г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15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Constantia"/>
              </a:rPr>
              <a:t>млн.ру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10cf9b"/>
                </a:solidFill>
                <a:latin typeface="Constantia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cf9b"/>
                </a:solidFill>
                <a:latin typeface="Constantia"/>
              </a:rPr>
              <a:t>кварти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6732720" y="3357720"/>
            <a:ext cx="1871640" cy="24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8 г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25,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Constantia"/>
              </a:rPr>
              <a:t>млн.ру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10cf9b"/>
                </a:solidFill>
                <a:latin typeface="Constantia"/>
              </a:rPr>
              <a:t>20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cf9b"/>
                </a:solidFill>
                <a:latin typeface="Constantia"/>
              </a:rPr>
              <a:t>кварти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450720" y="1030320"/>
            <a:ext cx="8321760" cy="110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0948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ОР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609480" y="2828880"/>
            <a:ext cx="230688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4572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nstantia"/>
              </a:rPr>
              <a:t>59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млн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3"/>
          <a:srcRect l="5943" t="0" r="5943" b="0"/>
          <a:stretch/>
        </p:blipFill>
        <p:spPr>
          <a:xfrm rot="420000">
            <a:off x="2898360" y="1017360"/>
            <a:ext cx="563868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85960" y="71280"/>
            <a:ext cx="7043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 Math"/>
              </a:rPr>
              <a:t>           </a:t>
            </a:r>
            <a:r>
              <a:rPr b="0" lang="ru-RU" sz="3000" spc="-1" strike="noStrike">
                <a:solidFill>
                  <a:srgbClr val="000000"/>
                </a:solidFill>
                <a:latin typeface="Cambria Math"/>
              </a:rPr>
              <a:t>Статья 28 Бюджетного Кодекса РФ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500120"/>
            <a:ext cx="9144000" cy="535788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Бюджетная система Российской Федерации основана на принципах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единства бюджетной системы Российской Федерации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разграничения доходов и расходов между уровнями бюджетной системы Российской Федерации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самостоятельности бюджетов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полноты отражения доходов и расходов бюджетов, бюджетов государственных внебюджетных фондов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сбалансированности бюджета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эффективности и экономности использования бюджетных средств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общего (совокупного) покрытия расходов бюджетов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гласности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достоверности бюджета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mbria Math"/>
              </a:rPr>
              <a:t>адресности и целевого характера бюджетных средств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18001" t="0" r="18501" b="0"/>
          <a:stretch/>
        </p:blipFill>
        <p:spPr>
          <a:xfrm>
            <a:off x="8043840" y="5157720"/>
            <a:ext cx="1079640" cy="17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822240" y="676440"/>
            <a:ext cx="7284960" cy="96336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2"/>
          <p:cNvSpPr/>
          <p:nvPr/>
        </p:nvSpPr>
        <p:spPr>
          <a:xfrm>
            <a:off x="611280" y="1857240"/>
            <a:ext cx="5976720" cy="64944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7" y="0"/>
                </a:lnTo>
                <a:lnTo>
                  <a:pt x="21600" y="10800"/>
                </a:lnTo>
                <a:lnTo>
                  <a:pt x="204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ГО и Ч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638280" y="2584440"/>
            <a:ext cx="5976720" cy="72072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8" y="0"/>
                </a:lnTo>
                <a:lnTo>
                  <a:pt x="21600" y="10800"/>
                </a:lnTo>
                <a:lnTo>
                  <a:pt x="202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УКРЕПЛЕНИЕ ПРАВОПОРЯД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65280" y="4091040"/>
            <a:ext cx="5976720" cy="79200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69" y="0"/>
                </a:lnTo>
                <a:lnTo>
                  <a:pt x="21600" y="10800"/>
                </a:lnTo>
                <a:lnTo>
                  <a:pt x="201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ПРОФИЛАКТИКА ТЕРРОРИЗМ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638280" y="4941720"/>
            <a:ext cx="5976720" cy="64944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7" y="0"/>
                </a:lnTo>
                <a:lnTo>
                  <a:pt x="21600" y="10800"/>
                </a:lnTo>
                <a:lnTo>
                  <a:pt x="204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ПРОТИВОДЕЙСТВИЕ КОРРУП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611280" y="5697360"/>
            <a:ext cx="5976720" cy="64800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30" y="0"/>
                </a:lnTo>
                <a:lnTo>
                  <a:pt x="21600" y="10800"/>
                </a:lnTo>
                <a:lnTo>
                  <a:pt x="204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РАЗВИТИЕ КАЗАЧЕСТВ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164360" y="1916280"/>
          <a:ext cx="1585800" cy="4481280"/>
        </p:xfrm>
        <a:graphic>
          <a:graphicData uri="http://schemas.openxmlformats.org/drawingml/2006/table">
            <a:tbl>
              <a:tblPr/>
              <a:tblGrid>
                <a:gridCol w="158580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1648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12240">
                      <a:solidFill>
                        <a:srgbClr val="0bd0d9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7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1224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0bd0d9">
                        <a:alpha val="20000"/>
                      </a:srgbClr>
                    </a:solidFill>
                  </a:tcPr>
                </a:tc>
              </a:tr>
              <a:tr h="71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28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9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0bd0d9">
                        <a:alpha val="20000"/>
                      </a:srgbClr>
                    </a:solidFill>
                  </a:tcPr>
                </a:tc>
              </a:tr>
              <a:tr h="71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0033"/>
                          </a:solidFill>
                          <a:latin typeface="Constantia"/>
                        </a:rPr>
                        <a:t>3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0bd0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37" name="Picture 33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73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4" descr="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35"/>
          <p:cNvSpPr/>
          <p:nvPr/>
        </p:nvSpPr>
        <p:spPr>
          <a:xfrm>
            <a:off x="638280" y="3346560"/>
            <a:ext cx="5976720" cy="68400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4" y="0"/>
                </a:lnTo>
                <a:lnTo>
                  <a:pt x="21600" y="10800"/>
                </a:lnTo>
                <a:lnTo>
                  <a:pt x="203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fafc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onstantia"/>
              </a:rPr>
              <a:t>БЕЗОПАСНОСТЬ ДОРОЖНОГО ДВИ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609480" y="1176480"/>
            <a:ext cx="24498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ддержка в сельском хозяйст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609480" y="2828880"/>
            <a:ext cx="230688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4572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nstantia"/>
              </a:rPr>
              <a:t>5,7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млн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3"/>
          <a:srcRect l="5972" t="0" r="5972" b="0"/>
          <a:stretch/>
        </p:blipFill>
        <p:spPr>
          <a:xfrm rot="360000">
            <a:off x="2990880" y="1085760"/>
            <a:ext cx="5587920" cy="47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536400" y="579600"/>
            <a:ext cx="7785360" cy="11761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"/>
          <p:cNvSpPr/>
          <p:nvPr/>
        </p:nvSpPr>
        <p:spPr>
          <a:xfrm>
            <a:off x="468360" y="177336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оходы                              2 079 489,9 тыс.  ру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сходы                             2 101 197,7 тыс. ру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ерхний преде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униципального долг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 1 января 2019 года         77 707,8 тыс. ру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зервный фонд                        800,0 тыс. ру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ефицит                                  21 707,8 тыс. ру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-15228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0"/>
          <a:ext cx="9145440" cy="6705720"/>
        </p:xfrm>
        <a:graphic>
          <a:graphicData uri="http://schemas.openxmlformats.org/drawingml/2006/table">
            <a:tbl>
              <a:tblPr/>
              <a:tblGrid>
                <a:gridCol w="9145440"/>
              </a:tblGrid>
              <a:tr h="2494080">
                <a:tc>
                  <a:txBody>
                    <a:bodyPr lIns="0" rIns="0" tIns="10080" bIns="0" anchor="ctr">
                      <a:noAutofit/>
                    </a:bodyPr>
                    <a:p>
                      <a:pPr marL="343080" indent="-341640" algn="ctr">
                        <a:lnSpc>
                          <a:spcPct val="9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3300"/>
                          </a:solidFill>
                          <a:latin typeface="Cambria"/>
                          <a:ea typeface="Times New Roman"/>
                        </a:rPr>
                        <a:t>Параметры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1640" algn="ctr">
                        <a:lnSpc>
                          <a:spcPct val="9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3300"/>
                          </a:solidFill>
                          <a:latin typeface="Cambria"/>
                          <a:ea typeface="Times New Roman"/>
                        </a:rPr>
                        <a:t>местного бюджет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1640" algn="ctr">
                        <a:lnSpc>
                          <a:spcPct val="9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993300"/>
                          </a:solidFill>
                          <a:latin typeface="Cambria"/>
                          <a:ea typeface="Times New Roman"/>
                        </a:rPr>
                        <a:t>на плановый перио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1640" algn="ctr">
                        <a:lnSpc>
                          <a:spcPct val="9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f5f9"/>
                    </a:solidFill>
                  </a:tcPr>
                </a:tc>
              </a:tr>
              <a:tr h="2589120">
                <a:tc>
                  <a:txBody>
                    <a:bodyPr lIns="0" rIns="0" tIns="21600" bIns="0" anchor="t">
                      <a:noAutofit/>
                    </a:bodyPr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019 год: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1779,8 млн. рублей 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1780,9 млн. рублей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ефицит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1,1 млн. рублей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f5f9"/>
                    </a:solidFill>
                  </a:tcPr>
                </a:tc>
              </a:tr>
              <a:tr h="1622520">
                <a:tc>
                  <a:txBody>
                    <a:bodyPr lIns="0" rIns="0" tIns="21600" bIns="0" anchor="t">
                      <a:noAutofit/>
                    </a:bodyPr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020 год: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1786,8 млн. рублей 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1776,5 млн. рублей 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10620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333080"/>
                          <a:tab algn="l" pos="10782360"/>
                        </a:tabLst>
                      </a:pP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фицит 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3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10,3 млн. рублей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0" y="18900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1"/>
          <p:cNvSpPr/>
          <p:nvPr/>
        </p:nvSpPr>
        <p:spPr>
          <a:xfrm>
            <a:off x="5429160" y="1785960"/>
            <a:ext cx="1727280" cy="1944720"/>
          </a:xfrm>
          <a:prstGeom prst="irregularSeal1">
            <a:avLst/>
          </a:prstGeom>
          <a:solidFill>
            <a:srgbClr val="ffff99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mbria Math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mbria Math"/>
              </a:rPr>
              <a:t>5%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1571760" y="3357720"/>
            <a:ext cx="1726920" cy="1944360"/>
          </a:xfrm>
          <a:prstGeom prst="irregularSeal1">
            <a:avLst/>
          </a:prstGeom>
          <a:solidFill>
            <a:srgbClr val="ffff99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mbria Math"/>
              </a:rPr>
              <a:t>20%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988320" y="4500720"/>
            <a:ext cx="1726920" cy="1944360"/>
          </a:xfrm>
          <a:prstGeom prst="irregularSeal1">
            <a:avLst/>
          </a:prstGeom>
          <a:solidFill>
            <a:srgbClr val="ffff99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50004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зменение бюджетного и налогового законодательства с 1 января 2018 года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57120" y="1285920"/>
            <a:ext cx="842976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Нормативы отчислений по НДФ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Норматив, установленный БК РФ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Единый норматив отчисления, установленный субъектом равен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Дополнительный норматив отчислений от НДФ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218360" y="5072040"/>
            <a:ext cx="114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mbria Math"/>
              </a:rPr>
              <a:t>8,1%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3"/>
          <a:stretch/>
        </p:blipFill>
        <p:spPr>
          <a:xfrm>
            <a:off x="0" y="5394240"/>
            <a:ext cx="1463760" cy="146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50004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зменение бюджетного и налогового законодательства с 1 января 2018 года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28760" y="1000080"/>
            <a:ext cx="8184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Увеличен норматив отчислений в бюджет района от акцизов на автомобильный и прямогонный бензин, дизельное топливо, моторные масла для дизельных и карбюраторных двигателей 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Cambria"/>
              </a:rPr>
              <a:t>с 0,0122%  до 0,0150%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Отменены отчисления в бюджет района по госпошлине за совершение юридически значимых действий в случае подачи заявления через МФЦ 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Увеличен норматив отчислений по упрощенной системе налогообложения с 10% до 15 %.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Cambri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5407200" y="5000760"/>
            <a:ext cx="37368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1157400"/>
            <a:ext cx="9102600" cy="570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431640" y="144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Доходы бюджета муниципального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образования Северский район в 2018 году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42920" y="3286080"/>
            <a:ext cx="4537080" cy="10796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0640" y="3286080"/>
            <a:ext cx="4475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 Math"/>
              </a:rPr>
              <a:t>Собственные дохо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ambria Math"/>
              </a:rPr>
              <a:t>71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 Math"/>
              </a:rPr>
              <a:t>578,8 тыс. руб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42920" y="1285920"/>
            <a:ext cx="5357880" cy="1928880"/>
          </a:xfrm>
          <a:prstGeom prst="down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noFill/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2 079 490 тыс. руб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16120" cy="1015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ambria"/>
              </a:rPr>
              <a:t>Структура собственных доходов бюджета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ambria"/>
              </a:rPr>
              <a:t>муниципального образования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ambria"/>
              </a:rPr>
              <a:t>Северский район в 2018 году</a:t>
            </a:r>
            <a:br>
              <a:rPr sz="24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6360" y="1481040"/>
            <a:ext cx="900432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2376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8101080" y="181080"/>
            <a:ext cx="81576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116000" y="189000"/>
            <a:ext cx="6912000" cy="11397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ambria"/>
              </a:rPr>
              <a:t>План налоговых и неналоговых доходов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ambria"/>
              </a:rPr>
              <a:t>МО Северский район, </a:t>
            </a:r>
            <a:r>
              <a:rPr b="1" lang="ru-RU" sz="2200" spc="-1" strike="noStrike">
                <a:solidFill>
                  <a:srgbClr val="08684e"/>
                </a:solidFill>
                <a:latin typeface="Cambria"/>
              </a:rPr>
              <a:t>тыс. рублей</a:t>
            </a:r>
            <a:br>
              <a:rPr sz="24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362240"/>
          <a:ext cx="8138880" cy="5068800"/>
        </p:xfrm>
        <a:graphic>
          <a:graphicData uri="http://schemas.openxmlformats.org/drawingml/2006/table">
            <a:tbl>
              <a:tblPr/>
              <a:tblGrid>
                <a:gridCol w="907920"/>
                <a:gridCol w="5575320"/>
                <a:gridCol w="165564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№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Наименование доходного источ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2018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НДФ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420 80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Арендная плата за зем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46 640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ЕН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40 038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УС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24 40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Госпошл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10 856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Продажа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9 950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73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Штрафы, санкции, возмещение ущер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7 109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Налог на прибыль организац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5 170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Проч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6612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2303e"/>
                          </a:solidFill>
                          <a:latin typeface="Cambria Math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Cambria Math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Cambria Math"/>
                        </a:rPr>
                        <a:t>571 578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50720" y="328680"/>
            <a:ext cx="8437680" cy="1201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4"/>
          <p:cNvGrpSpPr/>
          <p:nvPr/>
        </p:nvGrpSpPr>
        <p:grpSpPr>
          <a:xfrm>
            <a:off x="504720" y="2975040"/>
            <a:ext cx="4646880" cy="1190520"/>
            <a:chOff x="504720" y="2975040"/>
            <a:chExt cx="4646880" cy="1190520"/>
          </a:xfrm>
        </p:grpSpPr>
        <p:grpSp>
          <p:nvGrpSpPr>
            <p:cNvPr id="148" name="Group 5"/>
            <p:cNvGrpSpPr/>
            <p:nvPr/>
          </p:nvGrpSpPr>
          <p:grpSpPr>
            <a:xfrm>
              <a:off x="504720" y="2975040"/>
              <a:ext cx="4646880" cy="1190520"/>
              <a:chOff x="504720" y="2975040"/>
              <a:chExt cx="4646880" cy="1190520"/>
            </a:xfrm>
          </p:grpSpPr>
          <p:pic>
            <p:nvPicPr>
              <p:cNvPr id="149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04720" y="2975040"/>
                <a:ext cx="4646880" cy="11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7"/>
              <p:cNvSpPr/>
              <p:nvPr/>
            </p:nvSpPr>
            <p:spPr>
              <a:xfrm>
                <a:off x="574560" y="3143160"/>
                <a:ext cx="4075200" cy="78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1" name="Text Box 8"/>
            <p:cNvSpPr/>
            <p:nvPr/>
          </p:nvSpPr>
          <p:spPr>
            <a:xfrm>
              <a:off x="574560" y="3094200"/>
              <a:ext cx="3400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t">
              <a:normAutofit fontScale="98000"/>
            </a:bodyPr>
            <a:p>
              <a:pPr lvl="1" marL="223920" indent="-223920" algn="r">
                <a:lnSpc>
                  <a:spcPct val="90000"/>
                </a:lnSpc>
                <a:spcAft>
                  <a:spcPts val="451"/>
                </a:spcAft>
                <a:buClr>
                  <a:srgbClr val="003366"/>
                </a:buClr>
                <a:buFont typeface="Constantia"/>
                <a:buChar char="•"/>
                <a:tabLst>
                  <a:tab algn="l" pos="228600"/>
                  <a:tab algn="l" pos="1143000"/>
                  <a:tab algn="l" pos="2057400"/>
                  <a:tab algn="l" pos="2971800"/>
                  <a:tab algn="l" pos="3886200"/>
                  <a:tab algn="l" pos="4800600"/>
                  <a:tab algn="l" pos="5715000"/>
                  <a:tab algn="l" pos="6629400"/>
                  <a:tab algn="l" pos="7543800"/>
                  <a:tab algn="l" pos="8458200"/>
                  <a:tab algn="l" pos="9372600"/>
                  <a:tab algn="l" pos="102870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Constantia"/>
                </a:rPr>
                <a:t>Субсидии                        </a:t>
              </a:r>
              <a:r>
                <a:rPr b="1" lang="ru-RU" sz="3200" spc="-1" strike="noStrike">
                  <a:solidFill>
                    <a:srgbClr val="990000"/>
                  </a:solidFill>
                  <a:latin typeface="Constantia"/>
                </a:rPr>
                <a:t>286,7</a:t>
              </a:r>
              <a:r>
                <a:rPr b="1" lang="ru-RU" sz="2400" spc="-1" strike="noStrike">
                  <a:solidFill>
                    <a:srgbClr val="990000"/>
                  </a:solidFill>
                  <a:latin typeface="Constantia"/>
                </a:rPr>
                <a:t> млн.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Group 9"/>
          <p:cNvGrpSpPr/>
          <p:nvPr/>
        </p:nvGrpSpPr>
        <p:grpSpPr>
          <a:xfrm>
            <a:off x="492120" y="1706400"/>
            <a:ext cx="4637160" cy="1192320"/>
            <a:chOff x="492120" y="1706400"/>
            <a:chExt cx="4637160" cy="1192320"/>
          </a:xfrm>
        </p:grpSpPr>
        <p:grpSp>
          <p:nvGrpSpPr>
            <p:cNvPr id="153" name="Group 10"/>
            <p:cNvGrpSpPr/>
            <p:nvPr/>
          </p:nvGrpSpPr>
          <p:grpSpPr>
            <a:xfrm>
              <a:off x="492120" y="1706400"/>
              <a:ext cx="4637160" cy="1192320"/>
              <a:chOff x="492120" y="1706400"/>
              <a:chExt cx="4637160" cy="1192320"/>
            </a:xfrm>
          </p:grpSpPr>
          <p:pic>
            <p:nvPicPr>
              <p:cNvPr id="154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92120" y="1706400"/>
                <a:ext cx="4637160" cy="11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12"/>
              <p:cNvSpPr/>
              <p:nvPr/>
            </p:nvSpPr>
            <p:spPr>
              <a:xfrm>
                <a:off x="561960" y="1874880"/>
                <a:ext cx="4060800" cy="7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6" name="Text Box 13"/>
            <p:cNvSpPr/>
            <p:nvPr/>
          </p:nvSpPr>
          <p:spPr>
            <a:xfrm>
              <a:off x="561960" y="1874880"/>
              <a:ext cx="33908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t">
              <a:normAutofit fontScale="85000"/>
            </a:bodyPr>
            <a:p>
              <a:pPr lvl="1" marL="194040" indent="-194040" algn="r">
                <a:lnSpc>
                  <a:spcPct val="90000"/>
                </a:lnSpc>
                <a:spcAft>
                  <a:spcPts val="451"/>
                </a:spcAft>
                <a:buClr>
                  <a:srgbClr val="003366"/>
                </a:buClr>
                <a:buFont typeface="Constantia"/>
                <a:buChar char="•"/>
                <a:tabLst>
                  <a:tab algn="l" pos="228600"/>
                  <a:tab algn="l" pos="1143000"/>
                  <a:tab algn="l" pos="2057400"/>
                  <a:tab algn="l" pos="2971800"/>
                  <a:tab algn="l" pos="3886200"/>
                  <a:tab algn="l" pos="4800600"/>
                  <a:tab algn="l" pos="5715000"/>
                  <a:tab algn="l" pos="6629400"/>
                  <a:tab algn="l" pos="7543800"/>
                  <a:tab algn="l" pos="8458200"/>
                  <a:tab algn="l" pos="9372600"/>
                  <a:tab algn="l" pos="102870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Constantia"/>
                </a:rPr>
                <a:t>Дотация                        </a:t>
              </a:r>
              <a:r>
                <a:rPr b="1" lang="ru-RU" sz="3200" spc="-1" strike="noStrike">
                  <a:solidFill>
                    <a:srgbClr val="990000"/>
                  </a:solidFill>
                  <a:latin typeface="Constantia"/>
                </a:rPr>
                <a:t>109,2</a:t>
              </a:r>
              <a:r>
                <a:rPr b="1" lang="ru-RU" sz="2400" spc="-1" strike="noStrike">
                  <a:solidFill>
                    <a:srgbClr val="990000"/>
                  </a:solidFill>
                  <a:latin typeface="Constantia"/>
                </a:rPr>
                <a:t> млн.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581040" y="4241880"/>
            <a:ext cx="4646520" cy="1260360"/>
            <a:chOff x="581040" y="4241880"/>
            <a:chExt cx="4646520" cy="1260360"/>
          </a:xfrm>
        </p:grpSpPr>
        <p:grpSp>
          <p:nvGrpSpPr>
            <p:cNvPr id="158" name="Group 15"/>
            <p:cNvGrpSpPr/>
            <p:nvPr/>
          </p:nvGrpSpPr>
          <p:grpSpPr>
            <a:xfrm>
              <a:off x="581040" y="4241880"/>
              <a:ext cx="4646520" cy="1260360"/>
              <a:chOff x="581040" y="4241880"/>
              <a:chExt cx="4646520" cy="1260360"/>
            </a:xfrm>
          </p:grpSpPr>
          <p:pic>
            <p:nvPicPr>
              <p:cNvPr id="159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581040" y="4241880"/>
                <a:ext cx="4646520" cy="12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Text Box 17"/>
              <p:cNvSpPr/>
              <p:nvPr/>
            </p:nvSpPr>
            <p:spPr>
              <a:xfrm>
                <a:off x="654120" y="4417920"/>
                <a:ext cx="4043160" cy="8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1" name="Text Box 18"/>
            <p:cNvSpPr/>
            <p:nvPr/>
          </p:nvSpPr>
          <p:spPr>
            <a:xfrm>
              <a:off x="654120" y="4417920"/>
              <a:ext cx="3395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t">
              <a:normAutofit fontScale="98000"/>
            </a:bodyPr>
            <a:p>
              <a:pPr lvl="1" marL="223920" indent="-223920" algn="r">
                <a:lnSpc>
                  <a:spcPct val="90000"/>
                </a:lnSpc>
                <a:spcAft>
                  <a:spcPts val="451"/>
                </a:spcAft>
                <a:buClr>
                  <a:srgbClr val="003366"/>
                </a:buClr>
                <a:buFont typeface="Constantia"/>
                <a:buChar char="•"/>
                <a:tabLst>
                  <a:tab algn="l" pos="228600"/>
                  <a:tab algn="l" pos="1143000"/>
                  <a:tab algn="l" pos="2057400"/>
                  <a:tab algn="l" pos="2971800"/>
                  <a:tab algn="l" pos="3886200"/>
                  <a:tab algn="l" pos="4800600"/>
                  <a:tab algn="l" pos="5715000"/>
                  <a:tab algn="l" pos="6629400"/>
                  <a:tab algn="l" pos="7543800"/>
                  <a:tab algn="l" pos="8458200"/>
                  <a:tab algn="l" pos="9372600"/>
                  <a:tab algn="l" pos="102870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Constantia"/>
                </a:rPr>
                <a:t>Субвенции                        </a:t>
              </a:r>
              <a:r>
                <a:rPr b="1" lang="ru-RU" sz="3200" spc="-1" strike="noStrike">
                  <a:solidFill>
                    <a:srgbClr val="990000"/>
                  </a:solidFill>
                  <a:latin typeface="Constantia"/>
                </a:rPr>
                <a:t>1105,1</a:t>
              </a:r>
              <a:r>
                <a:rPr b="1" lang="ru-RU" sz="2400" spc="-1" strike="noStrike">
                  <a:solidFill>
                    <a:srgbClr val="990000"/>
                  </a:solidFill>
                  <a:latin typeface="Constantia"/>
                </a:rPr>
                <a:t> млн.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2" name="Group 19"/>
          <p:cNvGrpSpPr/>
          <p:nvPr/>
        </p:nvGrpSpPr>
        <p:grpSpPr>
          <a:xfrm>
            <a:off x="581040" y="5648400"/>
            <a:ext cx="4646520" cy="1208160"/>
            <a:chOff x="581040" y="5648400"/>
            <a:chExt cx="4646520" cy="1208160"/>
          </a:xfrm>
        </p:grpSpPr>
        <p:grpSp>
          <p:nvGrpSpPr>
            <p:cNvPr id="163" name="Group 20"/>
            <p:cNvGrpSpPr/>
            <p:nvPr/>
          </p:nvGrpSpPr>
          <p:grpSpPr>
            <a:xfrm>
              <a:off x="581040" y="5648400"/>
              <a:ext cx="4646520" cy="1208160"/>
              <a:chOff x="581040" y="5648400"/>
              <a:chExt cx="4646520" cy="1208160"/>
            </a:xfrm>
          </p:grpSpPr>
          <p:pic>
            <p:nvPicPr>
              <p:cNvPr id="164" name="Picture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581040" y="5648400"/>
                <a:ext cx="4646520" cy="12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Text Box 22"/>
              <p:cNvSpPr/>
              <p:nvPr/>
            </p:nvSpPr>
            <p:spPr>
              <a:xfrm>
                <a:off x="654120" y="5816520"/>
                <a:ext cx="4062240" cy="79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6" name="Text Box 23"/>
            <p:cNvSpPr/>
            <p:nvPr/>
          </p:nvSpPr>
          <p:spPr>
            <a:xfrm>
              <a:off x="654120" y="5816520"/>
              <a:ext cx="339552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t">
              <a:normAutofit fontScale="92000"/>
            </a:bodyPr>
            <a:p>
              <a:pPr lvl="1" marL="210240" indent="-210240" algn="r">
                <a:lnSpc>
                  <a:spcPct val="90000"/>
                </a:lnSpc>
                <a:spcAft>
                  <a:spcPts val="451"/>
                </a:spcAft>
                <a:buClr>
                  <a:srgbClr val="003366"/>
                </a:buClr>
                <a:buFont typeface="Constantia"/>
                <a:buChar char="•"/>
                <a:tabLst>
                  <a:tab algn="l" pos="228600"/>
                  <a:tab algn="l" pos="1143000"/>
                  <a:tab algn="l" pos="2057400"/>
                  <a:tab algn="l" pos="2971800"/>
                  <a:tab algn="l" pos="3886200"/>
                  <a:tab algn="l" pos="4800600"/>
                  <a:tab algn="l" pos="5715000"/>
                  <a:tab algn="l" pos="6629400"/>
                  <a:tab algn="l" pos="7543800"/>
                  <a:tab algn="l" pos="8458200"/>
                  <a:tab algn="l" pos="9372600"/>
                  <a:tab algn="l" pos="102870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Constantia"/>
                </a:rPr>
                <a:t>Средства поселений                        </a:t>
              </a:r>
              <a:r>
                <a:rPr b="1" lang="ru-RU" sz="3200" spc="-1" strike="noStrike">
                  <a:solidFill>
                    <a:srgbClr val="990000"/>
                  </a:solidFill>
                  <a:latin typeface="Constantia"/>
                </a:rPr>
                <a:t>6,9</a:t>
              </a:r>
              <a:r>
                <a:rPr b="1" lang="ru-RU" sz="2400" spc="-1" strike="noStrike">
                  <a:solidFill>
                    <a:srgbClr val="990000"/>
                  </a:solidFill>
                  <a:latin typeface="Constantia"/>
                </a:rPr>
                <a:t> млн.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7" name="Picture 24" descr=""/>
          <p:cNvPicPr/>
          <p:nvPr/>
        </p:nvPicPr>
        <p:blipFill>
          <a:blip r:embed="rId8"/>
          <a:stretch/>
        </p:blipFill>
        <p:spPr>
          <a:xfrm>
            <a:off x="5430960" y="1579680"/>
            <a:ext cx="357984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80" cy="1119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8148600" y="115920"/>
            <a:ext cx="816120" cy="10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324000" y="1197000"/>
          <a:ext cx="8821440" cy="5452920"/>
        </p:xfrm>
        <a:graphic>
          <a:graphicData uri="http://schemas.openxmlformats.org/drawingml/2006/table">
            <a:tbl>
              <a:tblPr/>
              <a:tblGrid>
                <a:gridCol w="8821440"/>
              </a:tblGrid>
              <a:tr h="1173240">
                <a:tc>
                  <a:txBody>
                    <a:bodyPr lIns="90000" rIns="90000" tIns="64440" bIns="46800" anchor="ctr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Britannic Bold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ходы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Britannic Bold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Britannic Bold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ормированию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Britannic Bold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ходов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Britannic Bol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90000" rIns="90000" tIns="69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Britannic Bold"/>
                          <a:ea typeface="Times New Roman"/>
                        </a:rPr>
                        <a:t>-   </a:t>
                      </a: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ндексация «базовых» объемов расход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1000">
                <a:tc>
                  <a:txBody>
                    <a:bodyPr lIns="90000" rIns="90000" tIns="69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Britannic Bold"/>
                          <a:ea typeface="Times New Roman"/>
                        </a:rPr>
                        <a:t>-   </a:t>
                      </a: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овышение оплаты труда в социальной сфере  в соответствии с отраслевыми «дорожными картами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1000">
                <a:tc>
                  <a:txBody>
                    <a:bodyPr lIns="90000" rIns="90000" tIns="69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Britannic Bold"/>
                          <a:ea typeface="Times New Roman"/>
                        </a:rPr>
                        <a:t>-   </a:t>
                      </a: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ндексация фондов оплаты труда остальных категорий работников на 5% с 1 января 2018 год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200">
                <a:tc>
                  <a:txBody>
                    <a:bodyPr lIns="90000" rIns="90000" tIns="63360" bIns="46800" anchor="ctr">
                      <a:noAutofit/>
                    </a:bodyPr>
                    <a:p>
                      <a:pPr marL="457200" indent="-457200">
                        <a:lnSpc>
                          <a:spcPct val="95000"/>
                        </a:lnSpc>
                        <a:buClr>
                          <a:srgbClr val="00008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сключение расходов на МФЦ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>
                        <a:lnSpc>
                          <a:spcPct val="95000"/>
                        </a:lnSpc>
                        <a:buClr>
                          <a:srgbClr val="00008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сключение расходов, не отнесенных к вопросам местного значения район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5:30:17Z</dcterms:created>
  <dc:creator>Гостев</dc:creator>
  <dc:description/>
  <dc:language>en-US</dc:language>
  <cp:lastModifiedBy>ФУ администрации МО Северский район</cp:lastModifiedBy>
  <cp:lastPrinted>2015-04-27T08:24:46Z</cp:lastPrinted>
  <dcterms:modified xsi:type="dcterms:W3CDTF">2018-01-19T13:16:21Z</dcterms:modified>
  <cp:revision>322</cp:revision>
  <dc:subject/>
  <dc:title>Слайд 1</dc:title>
</cp:coreProperties>
</file>